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9.jpeg" ContentType="image/jpeg"/>
  <Override PartName="/ppt/media/image35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33.jpeg" ContentType="image/jpeg"/>
  <Override PartName="/ppt/media/image28.jpeg" ContentType="image/jpeg"/>
  <Override PartName="/ppt/media/image12.wmf" ContentType="image/x-wmf"/>
  <Override PartName="/ppt/media/image34.jpeg" ContentType="image/jpeg"/>
  <Override PartName="/ppt/media/image40.wmf" ContentType="image/x-wmf"/>
  <Override PartName="/ppt/media/image37.png" ContentType="image/png"/>
  <Override PartName="/ppt/media/image30.jpeg" ContentType="image/jpeg"/>
  <Override PartName="/ppt/media/image4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4.wmf" ContentType="image/x-wmf"/>
  <Override PartName="/ppt/media/image18.wmf" ContentType="image/x-wmf"/>
  <Override PartName="/ppt/media/image3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088-6C08-4C8B-8199-3196C0626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nobelprize.org/nobel_prizes/physics/laureates/1956/index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ost common BJT symbols (US IEEE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39B-83E8-489F-AA81-854E8B91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another sti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566-8A6E-49B9-926D-B941340B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eory does not fully account for the thin bas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2B46-F048-4CA8-8184-69CB357B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JT is a current controlled current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052C-CF1B-4869-ADF4-FB39067F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useful model of a B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F3B-5BB9-481E-B937-924B2DB4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istor (~1955) radio that I ever saw was made with Germanium Bipolar Transistors and amazed me as the previous portable radio we had had two batteries (High Voltage B+ and “D” cells for the tube filaments. I wish we hadn’t thrown it out when it stopped working after a couple of years as it would now be worth several thousand dollars as a museum piece.  Bipolar transistors first showed up in EE undergraduate curricula in the mid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ell Telephone Laboratory invention was awarded a Nobel Prize in Physics: John Bardeen and Walter Brattain received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Nobel Prize in Physics, 1956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gether with William Shockley, "for their researches on semiconductors and their discovery of the transistor effec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CEA-38F2-4C2D-BD60-CCEDCE08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instruments that show these curves on a CRT. (Curve trac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865-6F15-469E-BFE3-093A9BEF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ing a bipolar transistor is easier than biasing a MOSF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52B-2B4E-4B85-9C45-FC761676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s heavily used as the other two configurations, but has a high frequency 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C63-5BBE-4DA7-91CC-54ADC35D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eedback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itter follower (common collector) is very useful (high input impedance and low output imped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7AF-CF16-45F9-BDE3-97B04913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stic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FEF-D690-4E56-BF1E-B44E7057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wo diodes back to back with a narrow base region in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161-BA1E-49B1-A602-16F84168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efer to think of it as a base current controlled collector current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D66E-DD31-475B-90D1-7EF3BCFA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normally implemented by doping regions on the surface of a silicon 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C5B-C223-48A3-B1AD-571353EF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685E-4DDC-4F85-99A9-EFDAFF403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98AB-D0D4-48B3-90CF-67C6CC882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F034-6D63-460D-B980-F377FC9F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A8A3-C13A-42E9-904C-66B49B36A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96F3-8204-4422-9BB3-16E981FBF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AD5C-6AE6-4834-A36A-6A14118E3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69E9-64F5-4E27-972A-CC4262B02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B2AB-BFDE-4505-AEB2-E5B923B9A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2E07-F7F9-4D39-A7F0-72B7A0B1A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85B1-F162-4B22-BA42-F2DFD3AFA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4A54-4B99-4B0A-8288-5634CB96B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5CC2-E35E-4576-B440-E2945A1E4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F35-B8CF-4C08-ACBC-968E2BBD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6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Bipolar Junction Transistors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1.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pera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pn-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istor in the Active M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mod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st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external voltage sour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required for biasing to achieve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6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se06F03"/>
          <p:cNvPicPr/>
          <p:nvPr/>
        </p:nvPicPr>
        <p:blipFill>
          <a:blip r:embed="rId1"/>
          <a:stretch/>
        </p:blipFill>
        <p:spPr>
          <a:xfrm>
            <a:off x="3733920" y="2133720"/>
            <a:ext cx="5257800" cy="296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52280" y="5715000"/>
            <a:ext cx="8763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flow in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biased to operate in the active mode. (Reverse current components due to drift of thermally generated minority carriers are not show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bias on emitter-base junction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current to f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urrent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jected from emitter into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jected from base into e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ill be shown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 (of the two above) is desir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chieved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eavy doping of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ight doping of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curren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lows across EB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s “out” of emitter 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nority carr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electrons will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jected from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site di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base is thin, concentration of excess minority carriers within 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exhibit constant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se06F04"/>
          <p:cNvPicPr/>
          <p:nvPr/>
        </p:nvPicPr>
        <p:blipFill>
          <a:blip r:embed="rId1"/>
          <a:stretch/>
        </p:blipFill>
        <p:spPr>
          <a:xfrm>
            <a:off x="795240" y="1846440"/>
            <a:ext cx="7358040" cy="417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6"/>
          <p:cNvPicPr/>
          <p:nvPr/>
        </p:nvPicPr>
        <p:blipFill>
          <a:blip r:embed="rId2"/>
          <a:stretch/>
        </p:blipFill>
        <p:spPr>
          <a:xfrm>
            <a:off x="220680" y="6232680"/>
            <a:ext cx="8618400" cy="625320"/>
          </a:xfrm>
          <a:prstGeom prst="rect">
            <a:avLst/>
          </a:prstGeom>
          <a:ln w="0">
            <a:noFill/>
          </a:ln>
        </p:spPr>
      </p:pic>
      <p:sp>
        <p:nvSpPr>
          <p:cNvPr id="99" name="Line 7"/>
          <p:cNvSpPr/>
          <p:nvPr/>
        </p:nvSpPr>
        <p:spPr>
          <a:xfrm flipH="1">
            <a:off x="4419360" y="609480"/>
            <a:ext cx="2971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91320" y="130320"/>
            <a:ext cx="3200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raight line represents constant grad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123840" y="127080"/>
          <a:ext cx="56674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27080"/>
                    <a:ext cx="56674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10"/>
          <p:cNvSpPr/>
          <p:nvPr/>
        </p:nvSpPr>
        <p:spPr>
          <a:xfrm>
            <a:off x="2971800" y="13716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nority carrie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t boundary EB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fined by (6.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nority carrier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t boundary of CB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z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ese electrons to be swept across j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4800600" y="2971800"/>
          <a:ext cx="39304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9304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pered minority-carr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centration profile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s injected into base to diff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rough base toward coll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 diffusion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4952880" y="2441520"/>
          <a:ext cx="383868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441520"/>
                    <a:ext cx="383868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 Flo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“diffusing” electron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combine with ho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ajority carriers in bas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is thin, however,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combination is minim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bination does, howev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gradient to take slightly curved sha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aight line is assu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se06F04"/>
          <p:cNvPicPr/>
          <p:nvPr/>
        </p:nvPicPr>
        <p:blipFill>
          <a:blip r:embed="rId1"/>
          <a:stretch/>
        </p:blipFill>
        <p:spPr>
          <a:xfrm>
            <a:off x="795240" y="1846440"/>
            <a:ext cx="7358040" cy="417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6"/>
          <p:cNvPicPr/>
          <p:nvPr/>
        </p:nvPicPr>
        <p:blipFill>
          <a:blip r:embed="rId2"/>
          <a:stretch/>
        </p:blipFill>
        <p:spPr>
          <a:xfrm>
            <a:off x="220680" y="6232680"/>
            <a:ext cx="86184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7"/>
          <p:cNvGraphicFramePr/>
          <p:nvPr/>
        </p:nvGraphicFramePr>
        <p:xfrm>
          <a:off x="123840" y="127080"/>
          <a:ext cx="56674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27080"/>
                    <a:ext cx="56674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9"/>
          <p:cNvSpPr/>
          <p:nvPr/>
        </p:nvSpPr>
        <p:spPr>
          <a:xfrm>
            <a:off x="3352680" y="3276720"/>
            <a:ext cx="2514600" cy="167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352680" y="3276720"/>
            <a:ext cx="2514600" cy="1676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4495680" y="609480"/>
            <a:ext cx="2895840" cy="358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1320" y="130320"/>
            <a:ext cx="32004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combination causes actual gradient to be curved, not straigh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267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bserved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st diffusing electrons will reach boundary of collector-b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letion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collector is more positive than base, thes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lectrons are swept into colle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collector curr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3333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pproximately equal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4670280" y="2232000"/>
          <a:ext cx="41688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0280" y="2232000"/>
                    <a:ext cx="41688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itude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independ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long as collector is positive, with respect to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 curr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inversely proportion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rectly proportional to area of EB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1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1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cale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hysical struc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bipolar transistor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voltage between two terminals of the transisto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ntrols the current that flows through the third term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equations that describe these current-voltage relationshi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yze and design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contain bipolar transistors, resistors, and dc 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he transistor can be used to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ke an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se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se current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omposed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u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 injected from 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into e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u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les that have to be supplied by external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replace those recomb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38880" y="2492280"/>
          <a:ext cx="3171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8880" y="2492280"/>
                    <a:ext cx="3171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se 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emitter current gai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influenc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th of base reg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doping of base emitter region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Value of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n 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ano-me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ghtly doped base / heavily doped 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581280" y="0"/>
            <a:ext cx="556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Emitt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35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l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nters transistor must le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6.7) through (6.13) expand upon this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3809880" y="1219320"/>
          <a:ext cx="514692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514692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apitulation and Equivalent-Circuit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 slides pres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-order BJT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p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in active m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relationship is collector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lated exponenti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orward-bias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mains independ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 long as this junction remains reverse bi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se06F05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561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04840" y="5943600"/>
            <a:ext cx="87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-signal equivalent-circuit models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 operating in the forward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6.1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textbook for Example 6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tructure of Actual Transis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7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realistic BJT cross-s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ly surr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tire emitter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it difficult for electrons injected into bas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scape col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symmetr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emitter and collect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inter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-direct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se06F07"/>
          <p:cNvPicPr/>
          <p:nvPr/>
        </p:nvPicPr>
        <p:blipFill>
          <a:blip r:embed="rId1"/>
          <a:stretch/>
        </p:blipFill>
        <p:spPr>
          <a:xfrm>
            <a:off x="404640" y="1986120"/>
            <a:ext cx="8282160" cy="3119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435760" y="5334120"/>
            <a:ext cx="42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section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JT to operate in active mode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BJ must be reverse bi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values of forward-bi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junction does not operate effectiv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active mode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ransistor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tained f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down to approximately -0.4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 this p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“diode” begin to really con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762120" y="685800"/>
          <a:ext cx="764208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64208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obta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near ampl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fundamentally nonlinear BJ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ree basic ways for connecting a BJ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be able to construct amplifiers with different proper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ctical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bipolar-transistor amplifiers that can be constructed by using discrete com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Saturation M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questions must be asked to determine wheth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JT is in saturation mode, or n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CBJ forward-bias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than 0.4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rati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less than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1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isto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se06F10"/>
          <p:cNvPicPr/>
          <p:nvPr/>
        </p:nvPicPr>
        <p:blipFill>
          <a:blip r:embed="rId1"/>
          <a:stretch/>
        </p:blipFill>
        <p:spPr>
          <a:xfrm>
            <a:off x="990720" y="2065320"/>
            <a:ext cx="7086600" cy="4030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41200" y="6172200"/>
            <a:ext cx="863892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flow in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biased to operate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1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isto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6280" y="3870360"/>
            <a:ext cx="48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large-signal models for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 operating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se06F11"/>
          <p:cNvPicPr/>
          <p:nvPr/>
        </p:nvPicPr>
        <p:blipFill>
          <a:blip r:embed="rId1"/>
          <a:stretch/>
        </p:blipFill>
        <p:spPr>
          <a:xfrm>
            <a:off x="5278320" y="228600"/>
            <a:ext cx="371340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28600" y="205740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urrent-Voltage Characteristic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se06F12"/>
          <p:cNvPicPr/>
          <p:nvPr/>
        </p:nvPicPr>
        <p:blipFill>
          <a:blip r:embed="rId1"/>
          <a:stretch/>
        </p:blipFill>
        <p:spPr>
          <a:xfrm>
            <a:off x="2057400" y="2317680"/>
            <a:ext cx="5006880" cy="3702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304920" y="6248520"/>
            <a:ext cx="8534160" cy="398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symbols for BJ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28600" y="2209680"/>
            <a:ext cx="4191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ircuit Symbols and Conven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se06F13"/>
          <p:cNvPicPr/>
          <p:nvPr/>
        </p:nvPicPr>
        <p:blipFill>
          <a:blip r:embed="rId1"/>
          <a:stretch/>
        </p:blipFill>
        <p:spPr>
          <a:xfrm>
            <a:off x="1630440" y="2214720"/>
            <a:ext cx="588168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tage polarities and current flow in transistors biased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209680"/>
            <a:ext cx="4191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2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ircuit Symbols and Conven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228600" y="2198520"/>
            <a:ext cx="8686800" cy="43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llector-Base Reverse Curr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, sm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verse current was igno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carri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rmally-generated mino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rr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do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er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add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-base junction curr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CB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rmally in the nano-ampere r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ny times hig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its theoretically-predicted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aphical Representation of Transistor Characteristic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se06F15"/>
          <p:cNvPicPr/>
          <p:nvPr/>
        </p:nvPicPr>
        <p:blipFill>
          <a:blip r:embed="rId1"/>
          <a:stretch/>
        </p:blipFill>
        <p:spPr>
          <a:xfrm>
            <a:off x="0" y="2208240"/>
            <a:ext cx="4341960" cy="3278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se06F16"/>
          <p:cNvPicPr/>
          <p:nvPr/>
        </p:nvPicPr>
        <p:blipFill>
          <a:blip r:embed="rId2"/>
          <a:stretch/>
        </p:blipFill>
        <p:spPr>
          <a:xfrm>
            <a:off x="4573440" y="2066760"/>
            <a:ext cx="4341960" cy="3343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228600" y="5562720"/>
            <a:ext cx="8686800" cy="1092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5/16: (left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istic for an npn transistor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righ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ffect of temperature on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istic.  Voltage polarities and current flow in transistors biased in the active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pendenc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n Collector Voltage – The Early Effec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perated in active region, practical BJT’s show 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ce of collector current on collector vol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uch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istic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“straight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5" descr="se06F17"/>
          <p:cNvPicPr/>
          <p:nvPr/>
        </p:nvPicPr>
        <p:blipFill>
          <a:blip r:embed="rId1"/>
          <a:stretch/>
        </p:blipFill>
        <p:spPr>
          <a:xfrm>
            <a:off x="3809880" y="2438280"/>
            <a:ext cx="5040360" cy="305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6"/>
          <p:cNvPicPr/>
          <p:nvPr/>
        </p:nvPicPr>
        <p:blipFill>
          <a:blip r:embed="rId2"/>
          <a:stretch/>
        </p:blipFill>
        <p:spPr>
          <a:xfrm>
            <a:off x="76320" y="6026040"/>
            <a:ext cx="9067680" cy="67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e06F18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2817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28600" y="5638680"/>
            <a:ext cx="8610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-signal equivalent-circuit models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JT operating in the active mode in the common-emitter configuration with the output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hapter examines anoth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terminal de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ipolar junction transi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 of this material mirror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pter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JT w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vented in 194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ell Telephone Laborat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hered in a new era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id-state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placed by MOSF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predominant transistor used in modern electron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.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 Alternative Form of the Common-Emitter Characteristic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Common-Emitter Current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ond way to quantif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hanging base current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easuing increment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Saturation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sa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Saturation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228600" y="56386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-emitter characteristics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asic CE circuit; note that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he horizontal scale is expanded around the origin to show the saturation region in some detail. A much greater expansion of the saturation region is shown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se06F19"/>
          <p:cNvPicPr/>
          <p:nvPr/>
        </p:nvPicPr>
        <p:blipFill>
          <a:blip r:embed="rId1"/>
          <a:stretch/>
        </p:blipFill>
        <p:spPr>
          <a:xfrm>
            <a:off x="2819520" y="152280"/>
            <a:ext cx="3476520" cy="54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equivalent-circuit model of the saturated 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se06F20"/>
          <p:cNvPicPr/>
          <p:nvPr/>
        </p:nvPicPr>
        <p:blipFill>
          <a:blip r:embed="rId1"/>
          <a:stretch/>
        </p:blipFill>
        <p:spPr>
          <a:xfrm>
            <a:off x="1523880" y="1447920"/>
            <a:ext cx="6324840" cy="40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1981080"/>
            <a:ext cx="4572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JT Circuits at DC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863720" y="2209680"/>
            <a:ext cx="5375160" cy="43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pplying the BJT in Amplifier Desig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he configuration presented in Chapter 5, an amplifier may be design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 and series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necessary to model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transfer characteristic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(VT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tion (6.2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iasing is important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nsure linear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ppropriate input voltage sw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model is employed to model the amp’s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6"/>
          <p:cNvPicPr/>
          <p:nvPr/>
        </p:nvPicPr>
        <p:blipFill>
          <a:blip r:embed="rId1"/>
          <a:stretch/>
        </p:blipFill>
        <p:spPr>
          <a:xfrm>
            <a:off x="76320" y="4464000"/>
            <a:ext cx="8839080" cy="170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se06F31"/>
          <p:cNvPicPr/>
          <p:nvPr/>
        </p:nvPicPr>
        <p:blipFill>
          <a:blip r:embed="rId2"/>
          <a:stretch/>
        </p:blipFill>
        <p:spPr>
          <a:xfrm>
            <a:off x="228600" y="1311120"/>
            <a:ext cx="861048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se06F32"/>
          <p:cNvPicPr/>
          <p:nvPr/>
        </p:nvPicPr>
        <p:blipFill>
          <a:blip r:embed="rId1"/>
          <a:stretch/>
        </p:blipFill>
        <p:spPr>
          <a:xfrm>
            <a:off x="228600" y="1252440"/>
            <a:ext cx="8686800" cy="4233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3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asing the BJT amplifier at a point Q located on the active-mode segment of the V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9" descr="6"/>
          <p:cNvPicPr/>
          <p:nvPr/>
        </p:nvPicPr>
        <p:blipFill>
          <a:blip r:embed="rId1"/>
          <a:stretch/>
        </p:blipFill>
        <p:spPr>
          <a:xfrm>
            <a:off x="174600" y="5975280"/>
            <a:ext cx="874080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se06F33"/>
          <p:cNvPicPr/>
          <p:nvPr/>
        </p:nvPicPr>
        <p:blipFill>
          <a:blip r:embed="rId2"/>
          <a:stretch/>
        </p:blipFill>
        <p:spPr>
          <a:xfrm>
            <a:off x="685800" y="228600"/>
            <a:ext cx="7772400" cy="578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asic BJT Amplifier Configura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 rot="60000">
            <a:off x="4915080" y="22824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ree-Basic Configurati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e06F48"/>
          <p:cNvPicPr/>
          <p:nvPr/>
        </p:nvPicPr>
        <p:blipFill>
          <a:blip r:embed="rId1"/>
          <a:stretch/>
        </p:blipFill>
        <p:spPr>
          <a:xfrm>
            <a:off x="2362320" y="2057400"/>
            <a:ext cx="4341600" cy="3833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4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ree basic configurations of BJT amplifier. The biasing arrangements are not show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vice Structure and Physical Op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1.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struc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BJ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 semiconductor reg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gio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described above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s d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Emitter (CE)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ree configurations,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E amplifier is most widely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6.50(a) shows a common-emitter amplifier – with biasing arrangement omit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gnal cours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i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a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utput resis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ansconductanc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-Emitter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7" descr="se06F50"/>
          <p:cNvPicPr/>
          <p:nvPr/>
        </p:nvPicPr>
        <p:blipFill>
          <a:blip r:embed="rId1"/>
          <a:stretch/>
        </p:blipFill>
        <p:spPr>
          <a:xfrm>
            <a:off x="152280" y="2057400"/>
            <a:ext cx="6629400" cy="4676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5181480" y="228600"/>
            <a:ext cx="373392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0: (a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-Emitter Amplifier fed with a signa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si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a generator with a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si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ommon-emitter amplifier circuit with the BJT replaced with its hybrid-pi mo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 Parameters of the 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ing BJT with hybrid-pi model yields the expressions to righ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971800" y="2157480"/>
          <a:ext cx="6068880" cy="41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7480"/>
                    <a:ext cx="606888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 Parameters of the 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ee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put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ate to 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ate to 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-circuit voltage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can be 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aking the CE configuration the workhorse in BJT amplifier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222120" y="2230560"/>
          <a:ext cx="8693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2230560"/>
                    <a:ext cx="8693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Common-Base (CB)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5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CB amplifier with bias details omitted;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mplifier equivalent circuit with the BJT represented by its T Mo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4" descr="se06F53"/>
          <p:cNvPicPr/>
          <p:nvPr/>
        </p:nvPicPr>
        <p:blipFill>
          <a:blip r:embed="rId1"/>
          <a:stretch/>
        </p:blipFill>
        <p:spPr>
          <a:xfrm>
            <a:off x="4890960" y="228600"/>
            <a:ext cx="402444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6.7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ummary and Comparison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CE configuration is one of the best suited for realizing the bulk of the gain required in an amplifie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pending on the magnitude of the gain required, either a single stage o a cascade of two or three stages may be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a resisto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the emitter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CE stage provides a number of performance improvements at the expense of gain re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w input resistance of the CB amplif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it useful only in specific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mitter follower finds application as a voltage buff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onnecting a high resistance source to a low-resistance lo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646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bias condition on its two junctions, the BJT can operate in one of three possible mo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t-of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oth junctions reverse bi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EBJ forward-biased and CBJ rever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oth junctions forward bi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mplifier applications, the BJT is operated in the active mode.  Switching applications make use of the cutoff and saturation m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JT operating in the active mode provides a collector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.  The base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emitter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operation in the active mode, the collector voltage of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p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ransistor must be kept higher than approximately 0.4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the base voltage.  For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ransistor, the collector voltage must be lower than approximately 0.4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the base voltage.  Otherwise, the CBJ becomes forward-biased and the transistor will enter sat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 constant collector current, the magnitude of the base emitter voltage decreases by about 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ever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rise in tempera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JT will be at the edge of saturation when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is reduced to about 0.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plified Structure and Modes of Op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junc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mitter-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nction (EB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llector-b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nction (CB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s on bia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 – used for 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tof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s – used for switc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active mod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ws a slight dependence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is phenomenon, known as the Early Effect, is modeled by ascribing a finite output resistance to the BJ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Early Voltage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dc collector current without the Early Effect taken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c analysis of transistor circuits is generally simplified by assuming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= 0.7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perate as a linear amplifier, the BJT is biased in the active region and the signa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kept smal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 design seeks to establish a dc collector current that is a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mall signals, the BJT functions as a linear voltage-controlled current source with transconduc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input resistance between base and emitter, looking into the base,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input resistance between bae and emitter, looking into the emitter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basic BJT amplifier configurations are shown in Figure 6.48.  A summary of their characteristic parameters is provided in Table 6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676160" y="554688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structure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p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6" descr="se06F01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32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676160" y="548640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6.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plified structure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n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is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se06F02"/>
          <p:cNvPicPr/>
          <p:nvPr/>
        </p:nvPicPr>
        <p:blipFill>
          <a:blip r:embed="rId1"/>
          <a:stretch/>
        </p:blipFill>
        <p:spPr>
          <a:xfrm>
            <a:off x="152280" y="2152800"/>
            <a:ext cx="8593200" cy="30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9:22:04Z</dcterms:modified>
  <cp:revision>398</cp:revision>
  <dc:subject/>
  <dc:title>Slide 1</dc:title>
</cp:coreProperties>
</file>